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0EF-8E59-4307-A078-A3F5EBCA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192-2930-4483-A1EB-383A2109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B0A-3BF6-4FD5-A815-DE47F712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6B3B-3AEE-4154-AFF0-B69FCB52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EE5C-D52D-4286-9EBE-5AC93262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1F74-3D79-4493-BE44-CA06C3FE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198-7176-4255-B595-1D572363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41C2-42AF-4470-80A3-4568C05A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69CF-9161-4D48-B0E8-2005CD31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61D-0EAB-4591-B411-C86FD8FF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33B-F196-4B47-9B55-C9DCF3AF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038-1A70-431D-A27D-49C10649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5775-0B74-4EB4-8F2A-17CC71754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858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572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5257800" cy="44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57913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Managing Stress in Your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304920"/>
            <a:ext cx="853416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chno"/>
              </a:rPr>
              <a:t>Time Management Skills:  </a:t>
            </a:r>
            <a:r>
              <a:rPr b="0" lang="en-US" sz="3600" spc="-1" strike="noStrike">
                <a:solidFill>
                  <a:srgbClr val="800080"/>
                </a:solidFill>
                <a:latin typeface="Techno"/>
              </a:rPr>
              <a:t>specific strategies for planning and using time in effective, healthful w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chno"/>
              </a:rPr>
              <a:t>Priorities:  </a:t>
            </a:r>
            <a:r>
              <a:rPr b="0" lang="en-US" sz="3600" spc="-1" strike="noStrike">
                <a:solidFill>
                  <a:srgbClr val="0000ff"/>
                </a:solidFill>
                <a:latin typeface="Techno"/>
              </a:rPr>
              <a:t>goals, tasks, or activities that you judge as more important to do than ot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441972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48320" y="4419720"/>
            <a:ext cx="32763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304920"/>
            <a:ext cx="8534160" cy="102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imes New Roman"/>
              </a:rPr>
              <a:t>Grief Re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an individuals total response to a major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extile"/>
              </a:rPr>
              <a:t>Five Stages of Lo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tone Sans ITC TT-Bold"/>
              </a:rPr>
              <a:t>Stage 1:</a:t>
            </a:r>
            <a:r>
              <a:rPr b="0" lang="en-US" sz="2400" spc="-1" strike="noStrike">
                <a:solidFill>
                  <a:srgbClr val="000000"/>
                </a:solidFill>
                <a:latin typeface="Stone Sans ITC TT-Bold"/>
              </a:rPr>
              <a:t>  </a:t>
            </a:r>
            <a:r>
              <a:rPr b="0" lang="en-US" sz="2400" spc="-1" strike="noStrike">
                <a:solidFill>
                  <a:srgbClr val="800080"/>
                </a:solidFill>
                <a:latin typeface="Stone Sans ITC TT-Bold"/>
              </a:rPr>
              <a:t>Denial:</a:t>
            </a:r>
            <a:r>
              <a:rPr b="0" lang="en-US" sz="2400" spc="-1" strike="noStrike">
                <a:solidFill>
                  <a:srgbClr val="000000"/>
                </a:solidFill>
                <a:latin typeface="Stone Sans ITC TT-Bold"/>
              </a:rPr>
              <a:t>  the person cannot believe that the loss has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tone Sans ITC TT-Bold"/>
              </a:rPr>
              <a:t>Stage 2</a:t>
            </a:r>
            <a:r>
              <a:rPr b="0" lang="en-US" sz="2400" spc="-1" strike="noStrike">
                <a:solidFill>
                  <a:srgbClr val="000000"/>
                </a:solidFill>
                <a:latin typeface="Stone Sans ITC TT-Bold"/>
              </a:rPr>
              <a:t>:  </a:t>
            </a:r>
            <a:r>
              <a:rPr b="0" lang="en-US" sz="2400" spc="-1" strike="noStrike">
                <a:solidFill>
                  <a:srgbClr val="800080"/>
                </a:solidFill>
                <a:latin typeface="Stone Sans ITC TT-Bold"/>
              </a:rPr>
              <a:t>Anger:</a:t>
            </a:r>
            <a:r>
              <a:rPr b="0" lang="en-US" sz="2400" spc="-1" strike="noStrike">
                <a:solidFill>
                  <a:srgbClr val="000000"/>
                </a:solidFill>
                <a:latin typeface="Stone Sans ITC TT-Bold"/>
              </a:rPr>
              <a:t> the person becomes frustrated with the “new” situation and may become critical or uncoop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tone Sans ITC TT-Bold"/>
              </a:rPr>
              <a:t>State 3:</a:t>
            </a:r>
            <a:r>
              <a:rPr b="0" lang="en-US" sz="2400" spc="-1" strike="noStrike">
                <a:solidFill>
                  <a:srgbClr val="000000"/>
                </a:solidFill>
                <a:latin typeface="Stone Sans ITC TT-Bold"/>
              </a:rPr>
              <a:t>  </a:t>
            </a:r>
            <a:r>
              <a:rPr b="0" lang="en-US" sz="2400" spc="-1" strike="noStrike">
                <a:solidFill>
                  <a:srgbClr val="800080"/>
                </a:solidFill>
                <a:latin typeface="Stone Sans ITC TT-Bold"/>
              </a:rPr>
              <a:t>Bargaining;</a:t>
            </a:r>
            <a:r>
              <a:rPr b="0" lang="en-US" sz="2400" spc="-1" strike="noStrike">
                <a:solidFill>
                  <a:srgbClr val="000000"/>
                </a:solidFill>
                <a:latin typeface="Stone Sans ITC TT-Bold"/>
              </a:rPr>
              <a:t>  the person may promise to change if the lost person or object can be returned, even for a short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tone Sans ITC TT-Bold"/>
              </a:rPr>
              <a:t>Stage 4:</a:t>
            </a:r>
            <a:r>
              <a:rPr b="0" lang="en-US" sz="2400" spc="-1" strike="noStrike">
                <a:solidFill>
                  <a:srgbClr val="000000"/>
                </a:solidFill>
                <a:latin typeface="Stone Sans ITC TT-Bold"/>
              </a:rPr>
              <a:t>  </a:t>
            </a:r>
            <a:r>
              <a:rPr b="0" lang="en-US" sz="2400" spc="-1" strike="noStrike">
                <a:solidFill>
                  <a:srgbClr val="800080"/>
                </a:solidFill>
                <a:latin typeface="Stone Sans ITC TT-Bold"/>
              </a:rPr>
              <a:t>Depression:</a:t>
            </a:r>
            <a:r>
              <a:rPr b="0" lang="en-US" sz="2400" spc="-1" strike="noStrike">
                <a:solidFill>
                  <a:srgbClr val="000000"/>
                </a:solidFill>
                <a:latin typeface="Stone Sans ITC TT-Bold"/>
              </a:rPr>
              <a:t>  silence and withdrawal. A deep sense of sadness usually comes with this stage.  Some may require professional help to come out of this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tone Sans ITC TT-Bold"/>
              </a:rPr>
              <a:t>Stage 5:</a:t>
            </a:r>
            <a:r>
              <a:rPr b="0" lang="en-US" sz="2400" spc="-1" strike="noStrike">
                <a:solidFill>
                  <a:srgbClr val="000000"/>
                </a:solidFill>
                <a:latin typeface="Stone Sans ITC TT-Bold"/>
              </a:rPr>
              <a:t>   </a:t>
            </a:r>
            <a:r>
              <a:rPr b="0" lang="en-US" sz="2400" spc="-1" strike="noStrike">
                <a:solidFill>
                  <a:srgbClr val="800080"/>
                </a:solidFill>
                <a:latin typeface="Stone Sans ITC TT-Bold"/>
              </a:rPr>
              <a:t>Acceptance:</a:t>
            </a:r>
            <a:r>
              <a:rPr b="0" lang="en-US" sz="2400" spc="-1" strike="noStrike">
                <a:solidFill>
                  <a:srgbClr val="000000"/>
                </a:solidFill>
                <a:latin typeface="Stone Sans ITC TT-Bold"/>
              </a:rPr>
              <a:t>  A new sense of “power” may overcome the person and they may be able to face reality in constructive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tone Sans ITC TT-Bold"/>
              </a:rPr>
              <a:t>HOPE:</a:t>
            </a:r>
            <a:r>
              <a:rPr b="0" lang="en-US" sz="3200" spc="-1" strike="noStrike">
                <a:solidFill>
                  <a:srgbClr val="000000"/>
                </a:solidFill>
                <a:latin typeface="Stone Sans ITC TT-Bold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Stone Sans ITC TT-Bold"/>
              </a:rPr>
              <a:t>A common emotion that usually operates through all five stages of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8534520" cy="23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extile"/>
              </a:rPr>
              <a:t>3 Stages of the stress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Alarm:  when the body and mind go on high al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413712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8763120" cy="65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99cc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imes New Roman"/>
              </a:rPr>
              <a:t>Fact:  Stress is a part of everyday lif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ess:  the body and minds reactions to everyday de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inds of stres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negative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 too much homework, death, not knowing how to handle the stress of daily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stres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ositive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 studying, pract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457200"/>
            <a:ext cx="777240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Bodily Changes that take place during “Alar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ypothalamus(nerve center in brain) triggers the pituitary 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ituitary gland triggers the adrenal gl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drenal glands secrete adrenaline(emergency horm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drenaline causes the following changes in th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pupils di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mouth dri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heart speeds up pumping more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lungs increase breathing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throat constr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liver and kidneys constr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skin starts to sw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digestive organs slow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85345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extile"/>
              </a:rPr>
              <a:t>2. Resistance:  when the body/mind try to repair the damage they may have received and return to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extile"/>
              </a:rPr>
              <a:t>3. Fatigue:  a tired feeling which lowers one’s level of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3733920"/>
            <a:ext cx="3075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8915400" cy="81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 types of fatig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9999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Physical fatigue:</a:t>
            </a:r>
            <a:r>
              <a:rPr b="0" lang="en-US" sz="3200" spc="-1" strike="noStrike">
                <a:solidFill>
                  <a:srgbClr val="ff8000"/>
                </a:solidFill>
                <a:latin typeface="Times New Roman"/>
              </a:rPr>
              <a:t>  caused by overworking the body resulting in a build up of lactic acid in the muscles and carbon dioxide in the cells    </a:t>
            </a:r>
            <a:r>
              <a:rPr b="1" lang="en-US" sz="3200" spc="-1" strike="noStrike">
                <a:solidFill>
                  <a:srgbClr val="ff8000"/>
                </a:solidFill>
                <a:latin typeface="Times New Roman"/>
              </a:rPr>
              <a:t>remedy:</a:t>
            </a:r>
            <a:r>
              <a:rPr b="0" lang="en-US" sz="3200" spc="-1" strike="noStrike">
                <a:solidFill>
                  <a:srgbClr val="ff8000"/>
                </a:solidFill>
                <a:latin typeface="Times New Roman"/>
              </a:rPr>
              <a:t> rest or sl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9999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Psychological Fatigue</a:t>
            </a:r>
            <a:r>
              <a:rPr b="1" lang="en-US" sz="3200" spc="-1" strike="noStrike">
                <a:solidFill>
                  <a:srgbClr val="ff8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OST COMMON TYPE OF FATIGUE</a:t>
            </a:r>
            <a:r>
              <a:rPr b="0" lang="en-US" sz="3200" spc="-1" strike="noStrike">
                <a:solidFill>
                  <a:srgbClr val="ff8000"/>
                </a:solidFill>
                <a:latin typeface="Times New Roman"/>
              </a:rPr>
              <a:t>  caused by worrying, overwork, depression, boredom.  </a:t>
            </a:r>
            <a:r>
              <a:rPr b="1" lang="en-US" sz="3200" spc="-1" strike="noStrike">
                <a:solidFill>
                  <a:srgbClr val="ff8000"/>
                </a:solidFill>
                <a:latin typeface="Times New Roman"/>
              </a:rPr>
              <a:t>Remedy</a:t>
            </a:r>
            <a:r>
              <a:rPr b="0" lang="en-US" sz="3200" spc="-1" strike="noStrike">
                <a:solidFill>
                  <a:srgbClr val="ff8000"/>
                </a:solidFill>
                <a:latin typeface="Times New Roman"/>
              </a:rPr>
              <a:t>:  planning, organization, activity, hobb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8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9999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Pathological Fatigue:</a:t>
            </a:r>
            <a:r>
              <a:rPr b="0" lang="en-US" sz="3200" spc="-1" strike="noStrike">
                <a:solidFill>
                  <a:srgbClr val="ff8000"/>
                </a:solidFill>
                <a:latin typeface="Times New Roman"/>
              </a:rPr>
              <a:t> overworking the body’s immune system resulting in anemia, the flu, being overweight, or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59364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8839080" cy="79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ress tolerance:  the amount of stress you can handle before you reach too much st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ersonality typ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Personality type A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ompetitive, high achieving, time ori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A personality is more likely to develop heart disease or other significant health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Personality type B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 competitive, laid back, procrast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Hardy personality:  a personality type that is able to stay healthy despite major or even traumatic stres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86104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extile"/>
              </a:rPr>
              <a:t>Physical Problems related to St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echno"/>
              </a:rPr>
              <a:t>High Blood Press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echno"/>
              </a:rPr>
              <a:t>Head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438280" cy="2743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578400" y="1981080"/>
            <a:ext cx="3813120" cy="2590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880" y="4876920"/>
            <a:ext cx="8001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echno"/>
              </a:rPr>
              <a:t>Asth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when the air carrying tubes of the lungs constr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echno"/>
              </a:rPr>
              <a:t>Compromised Immune Response</a:t>
            </a: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ou cannot fight disease as well and you are more likely to suffer from colds, the flu, infections, and possibly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echno"/>
              </a:rPr>
              <a:t>Psychosomatic Respo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physical disorders resulting from stress rather than injury or illness (skin disorders, sleep disorders, stomachaches, and digestive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304920"/>
            <a:ext cx="8305560" cy="11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Textile"/>
              </a:rPr>
              <a:t>STRESS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extile"/>
              </a:rPr>
              <a:t>Identify 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extile"/>
              </a:rPr>
              <a:t>(know what is causing the st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333399"/>
                </a:solidFill>
                <a:uFillTx/>
                <a:latin typeface="Times New Roman"/>
              </a:rPr>
              <a:t>Ways to handle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Physical 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Rechanneling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Relax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Laug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*Support Group-group of people with similar problems to share experi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22:58:48Z</dcterms:created>
  <dc:creator>Chatham County Schools</dc:creator>
  <dc:description/>
  <dc:language>en-US</dc:language>
  <cp:lastModifiedBy>Chatham County Schools</cp:lastModifiedBy>
  <dcterms:modified xsi:type="dcterms:W3CDTF">2006-01-29T23:41:31Z</dcterms:modified>
  <cp:revision>16</cp:revision>
  <dc:subject/>
  <dc:title>PowerPoint Presentation</dc:title>
</cp:coreProperties>
</file>